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22E810-3610-4823-AE06-2D69C7E8B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A9EEAD-E603-4D63-9190-28A36C060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9D90B9-C9D5-4FDB-9662-87F3D8AB4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5A4E00-B999-4B8B-A992-6C1133B3B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32E30E-316C-4AC1-97C0-502EDAADA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233178-0F19-4D0B-B0A2-7164002D5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C867FE-26D0-4184-82A4-6A79F644D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BC2630-A667-4413-A59B-DF80BB86F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3E09EB-2213-4F91-9A69-68B0CA3C8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3035C7-1536-49E4-B25F-05DA1902C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F2B-FBE1-4437-A44C-DBD3E0BA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82788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BF9-ACD1-4B0B-8FA9-E08181B3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056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0B37-6B81-40BE-99D0-31134930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48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160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48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160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958-C3F1-4A0E-A265-7FB0A1EC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D711-BFF3-4670-B8DB-222AEA8D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143000" y="1523520"/>
            <a:ext cx="739152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6B8A-1C18-4814-B4E7-66A8ADC8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2DC1-D0C3-4095-9B75-7C2EF6E1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F969-9269-415D-9724-316C5628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0963-84C4-442E-A4AB-5A52F1C2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6960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639A-69CF-4089-9ED6-31EF4487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1F8C-AED7-410C-BBA4-494A7C51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523520"/>
            <a:ext cx="739152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A82-587D-4E80-B969-BF1960F1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3056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983E-1C06-4B5E-9623-CEF3E809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67A5-33AD-473E-AE40-E999B73B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143000" y="382788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A11C-8084-4928-A8F4-E049A3B2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3056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5FB9-12B0-44BC-8342-368BC05C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4248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4160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14300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64248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4160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D43B-1B12-4F40-9469-79C7502A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B2C7-12F8-4A41-919C-A0BB8DD4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8D6-CB75-4A00-917F-938263B1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520-524D-4C8F-BBAC-EA54ABCC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6960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669C-2AB5-41AF-B02C-4B685BAE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9B6-167F-4EA3-B036-13E64EF2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056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6D54-328E-421F-B00D-1711F53C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601-230D-42AC-ACFF-F2A28880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523520"/>
            <a:ext cx="73915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836"/>
              </a:spcBef>
              <a:buClr>
                <a:srgbClr val="669999"/>
              </a:buClr>
              <a:buSzPct val="5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836"/>
              </a:spcBef>
              <a:buClr>
                <a:srgbClr val="cccc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836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836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83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83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758F-D945-48F7-8370-148F9B67F7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6" descr="top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4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143000" y="1523520"/>
            <a:ext cx="73915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836"/>
              </a:spcBef>
              <a:buClr>
                <a:srgbClr val="669999"/>
              </a:buClr>
              <a:buSzPct val="5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836"/>
              </a:spcBef>
              <a:buClr>
                <a:srgbClr val="cccc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836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836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83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83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4C75-9F2E-475A-A68B-EE8EC01C7E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ort.ebsc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4040" y="1258560"/>
            <a:ext cx="684864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Searching Interfac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28954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2" descr="slide2"/>
          <p:cNvPicPr/>
          <p:nvPr/>
        </p:nvPicPr>
        <p:blipFill>
          <a:blip r:embed="rId1"/>
          <a:stretch/>
        </p:blipFill>
        <p:spPr>
          <a:xfrm>
            <a:off x="176040" y="738360"/>
            <a:ext cx="8782200" cy="4900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8" name="Picture 16" descr="top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4"/>
          <p:cNvSpPr/>
          <p:nvPr/>
        </p:nvSpPr>
        <p:spPr>
          <a:xfrm>
            <a:off x="208080" y="5724360"/>
            <a:ext cx="851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EBSCO’s tutorial about basic searching and browsing i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usiness Sour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cords on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usiness Searching Interface (BSI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S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signed to help users research items such as economic or country analyses, investigate market trends or potential, and find current competitive information or landscape analysis inform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top"/>
          <p:cNvPicPr/>
          <p:nvPr/>
        </p:nvPicPr>
        <p:blipFill>
          <a:blip r:embed="rId1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7"/>
          <p:cNvSpPr/>
          <p:nvPr/>
        </p:nvSpPr>
        <p:spPr>
          <a:xfrm>
            <a:off x="320760" y="5715000"/>
            <a:ext cx="8494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usiness Searching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pports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usiness Sour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atabase product line. The specific database presented via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S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represented by the logo shown at the top of the Basic and Advanced Search screens. Click on the database logo at any time to return to the Basic Search scre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2" descr="slide2"/>
          <p:cNvPicPr/>
          <p:nvPr/>
        </p:nvPicPr>
        <p:blipFill>
          <a:blip r:embed="rId2"/>
          <a:stretch/>
        </p:blipFill>
        <p:spPr>
          <a:xfrm>
            <a:off x="176040" y="738360"/>
            <a:ext cx="8782200" cy="4900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3" name="Rectangle 33"/>
          <p:cNvSpPr/>
          <p:nvPr/>
        </p:nvSpPr>
        <p:spPr>
          <a:xfrm>
            <a:off x="209520" y="809640"/>
            <a:ext cx="3676680" cy="5335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8" descr="slide4"/>
          <p:cNvPicPr/>
          <p:nvPr/>
        </p:nvPicPr>
        <p:blipFill>
          <a:blip r:embed="rId1"/>
          <a:stretch/>
        </p:blipFill>
        <p:spPr>
          <a:xfrm>
            <a:off x="142920" y="752400"/>
            <a:ext cx="8858160" cy="488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5" name="Text Box 14"/>
          <p:cNvSpPr/>
          <p:nvPr/>
        </p:nvSpPr>
        <p:spPr>
          <a:xfrm>
            <a:off x="411120" y="5715000"/>
            <a:ext cx="8342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WSE LOOK-UP LIST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begin, note that the Basic Search screen provides easy access for browsing look-up lists of authors, companies, industries, keywords, publications and subjects. For example, enter a company name and then select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n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dio button before clicking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to view a list of company names, beginning with an exact match (when availab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2"/>
          <p:cNvSpPr/>
          <p:nvPr/>
        </p:nvSpPr>
        <p:spPr>
          <a:xfrm>
            <a:off x="666720" y="2622600"/>
            <a:ext cx="1128600" cy="3189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6"/>
          <p:cNvSpPr/>
          <p:nvPr/>
        </p:nvSpPr>
        <p:spPr>
          <a:xfrm>
            <a:off x="344520" y="1919160"/>
            <a:ext cx="1214280" cy="3891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7" descr="slide5"/>
          <p:cNvPicPr/>
          <p:nvPr/>
        </p:nvPicPr>
        <p:blipFill>
          <a:blip r:embed="rId1"/>
          <a:srcRect l="0" t="0" r="0" b="15322"/>
          <a:stretch/>
        </p:blipFill>
        <p:spPr>
          <a:xfrm>
            <a:off x="152280" y="743040"/>
            <a:ext cx="8828280" cy="4998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9" name="Picture 7" descr="top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355680" y="5932440"/>
            <a:ext cx="838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the box in front of the desired company name in the list, then click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include it with other terms in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ield. Or, click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utton to find all articles indexed under the selected company nam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3987720" y="3767040"/>
            <a:ext cx="728640" cy="3985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4"/>
          <p:cNvSpPr/>
          <p:nvPr/>
        </p:nvSpPr>
        <p:spPr>
          <a:xfrm>
            <a:off x="339840" y="1897200"/>
            <a:ext cx="1598400" cy="4237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1" descr="slide6"/>
          <p:cNvPicPr/>
          <p:nvPr/>
        </p:nvPicPr>
        <p:blipFill>
          <a:blip r:embed="rId1"/>
          <a:srcRect l="0" t="0" r="0" b="16190"/>
          <a:stretch/>
        </p:blipFill>
        <p:spPr>
          <a:xfrm>
            <a:off x="181080" y="735120"/>
            <a:ext cx="8793000" cy="5051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4" name="Picture 5" descr="top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3"/>
          <p:cNvSpPr/>
          <p:nvPr/>
        </p:nvSpPr>
        <p:spPr>
          <a:xfrm>
            <a:off x="228600" y="5827680"/>
            <a:ext cx="8659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RESULT LI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ludes expanded source types, such as Academic Journals, Trade Publications, SWOT Analyses, and Country Reports. To save a Result List item, click on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lder icon next to it. To create a personalized folder account, click on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old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k, the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ign in to My BSP or (BS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Click o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ore information regarding the Personalized Fold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9"/>
          <p:cNvSpPr/>
          <p:nvPr/>
        </p:nvSpPr>
        <p:spPr>
          <a:xfrm>
            <a:off x="8280360" y="4208400"/>
            <a:ext cx="611280" cy="417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333360" y="2914560"/>
            <a:ext cx="8391600" cy="8575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6" descr="slide7"/>
          <p:cNvPicPr/>
          <p:nvPr/>
        </p:nvPicPr>
        <p:blipFill>
          <a:blip r:embed="rId1"/>
          <a:stretch/>
        </p:blipFill>
        <p:spPr>
          <a:xfrm>
            <a:off x="176040" y="1119240"/>
            <a:ext cx="8799840" cy="399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9" name="Picture 5" descr="top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3"/>
          <p:cNvSpPr/>
          <p:nvPr/>
        </p:nvSpPr>
        <p:spPr>
          <a:xfrm>
            <a:off x="219240" y="5689440"/>
            <a:ext cx="8515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WSING PROFILES AND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asic Search screen also feature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w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ks for streamlined searching of alphabetical lists of Company or Industry Profiles, and Country or Market Research Reports, depending on availability. For example, click on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pany Profil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9"/>
          <p:cNvSpPr/>
          <p:nvPr/>
        </p:nvSpPr>
        <p:spPr>
          <a:xfrm>
            <a:off x="647640" y="3848040"/>
            <a:ext cx="1878120" cy="5540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2" descr="slide8"/>
          <p:cNvPicPr/>
          <p:nvPr/>
        </p:nvPicPr>
        <p:blipFill>
          <a:blip r:embed="rId1"/>
          <a:srcRect l="0" t="0" r="0" b="16142"/>
          <a:stretch/>
        </p:blipFill>
        <p:spPr>
          <a:xfrm>
            <a:off x="138240" y="684360"/>
            <a:ext cx="8854920" cy="5101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5" descr="top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2"/>
          <p:cNvSpPr/>
          <p:nvPr/>
        </p:nvSpPr>
        <p:spPr>
          <a:xfrm>
            <a:off x="228600" y="5848200"/>
            <a:ext cx="873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alphabetized list of Datamonitor Reports available in PDF format will be displayed. Browse by selecting the letter “A,” or by entering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wse f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ield, then click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w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ose reports beginning with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presented at the top of an alphabetized list. Click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monitor Re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k to view the full Company Report detail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3"/>
          <p:cNvSpPr/>
          <p:nvPr/>
        </p:nvSpPr>
        <p:spPr>
          <a:xfrm>
            <a:off x="2730600" y="2887560"/>
            <a:ext cx="1920600" cy="3668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1"/>
          <p:cNvSpPr/>
          <p:nvPr/>
        </p:nvSpPr>
        <p:spPr>
          <a:xfrm>
            <a:off x="347760" y="1704960"/>
            <a:ext cx="6622920" cy="565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1" descr="slide2"/>
          <p:cNvPicPr/>
          <p:nvPr/>
        </p:nvPicPr>
        <p:blipFill>
          <a:blip r:embed="rId1"/>
          <a:stretch/>
        </p:blipFill>
        <p:spPr>
          <a:xfrm>
            <a:off x="176040" y="738360"/>
            <a:ext cx="8782200" cy="4900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8" name="Picture 5" descr="top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9"/>
          <p:cNvSpPr/>
          <p:nvPr/>
        </p:nvSpPr>
        <p:spPr>
          <a:xfrm>
            <a:off x="258840" y="5770440"/>
            <a:ext cx="8582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k to view the complete online help manual, and visit the EBSCO Support Site a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support.ebsco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browse our Knowledge Base of FAQs, download Help Sheets and User Guides, view other tutorials, or see what’s new in Top Stories. This concludes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usiness Searching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uto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3"/>
          <p:cNvSpPr/>
          <p:nvPr/>
        </p:nvSpPr>
        <p:spPr>
          <a:xfrm>
            <a:off x="7297560" y="927000"/>
            <a:ext cx="544680" cy="306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4:42:47Z</dcterms:created>
  <dc:creator>Dino Persakis</dc:creator>
  <dc:description/>
  <dc:language>en-US</dc:language>
  <cp:lastModifiedBy>Shannon2</cp:lastModifiedBy>
  <dcterms:modified xsi:type="dcterms:W3CDTF">2010-07-14T01:04:47Z</dcterms:modified>
  <cp:revision>153</cp:revision>
  <dc:subject/>
  <dc:title>CINAHL Basic Search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2137211033</vt:lpwstr>
  </property>
</Properties>
</file>